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9C1E-2AB6-44DD-9B14-5877A1D1D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5FC1-0696-4CF9-8F19-A25ECA0A4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7EF6-0AA7-4767-BCBB-A1DD58F6A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ABFF-AB7F-445D-AFA0-6984D2D96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55D6-19BF-47E1-94D1-DAD12A2B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0537-4559-4E96-93BB-24281A055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B6DC-AB52-4EC0-A620-527EE1707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905C-1DFF-4369-8B89-20FF6723C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FA3B-7A29-454B-9A95-69C6C1929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F6B1-92A0-4AD9-A5C7-2D88A964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5A65-8ED6-47B6-93EB-E0648A0C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25D4-18B2-41E7-BFED-6111642F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3D98D-87DD-41EF-AFFD-67D4D49F4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260280"/>
            <a:ext cx="2160720" cy="12258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im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rat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58920" y="1557360"/>
            <a:ext cx="0" cy="13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1258920" y="1412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2924280"/>
            <a:ext cx="2808360" cy="1439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chi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IGRAZIONE qu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persone di un pa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ne vanno all’estero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vere e cercare un lav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436572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157720"/>
            <a:ext cx="2735280" cy="1700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i italiani sono st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igranti in mol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esi e,anche 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o di una volta, 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 sono anche og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5229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11640" y="4724280"/>
            <a:ext cx="158436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e princip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59280" y="537372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4211280" y="544464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850920" y="5373720"/>
            <a:ext cx="2890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96000" y="537372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5877000"/>
            <a:ext cx="935280" cy="504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op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16360" y="6165720"/>
            <a:ext cx="935280" cy="692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.S.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5877000"/>
            <a:ext cx="1008360" cy="720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56000" y="1197000"/>
            <a:ext cx="863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348000" y="1773360"/>
            <a:ext cx="2808360" cy="14396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chiama IMMIGR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ndo in un pa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ivano stranieri a viv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cercare lav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76500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333360"/>
            <a:ext cx="2449440" cy="1152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persone van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vivere in 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ro paese 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59640" y="765000"/>
            <a:ext cx="108108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659640" y="1341360"/>
            <a:ext cx="865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620640"/>
            <a:ext cx="1332000" cy="936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ov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v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04000" y="2133720"/>
            <a:ext cx="2016000" cy="1511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ggire 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tu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ici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semp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er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724360" y="3284640"/>
            <a:ext cx="1079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04000" y="4149720"/>
            <a:ext cx="1584360" cy="13669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 It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rriv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mmigr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oprattu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388360" y="5661000"/>
            <a:ext cx="287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8028000" y="6021360"/>
            <a:ext cx="865080" cy="8366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rica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b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380360" y="5661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164360" y="6093000"/>
            <a:ext cx="720720" cy="76500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o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5T07:57:19Z</dcterms:created>
  <dc:creator>studente</dc:creator>
  <dc:description/>
  <dc:language>en-US</dc:language>
  <cp:lastModifiedBy>studente</cp:lastModifiedBy>
  <dcterms:modified xsi:type="dcterms:W3CDTF">2016-12-05T08:46:18Z</dcterms:modified>
  <cp:revision>6</cp:revision>
  <dc:subject/>
  <dc:title>Diapositiva 1</dc:title>
</cp:coreProperties>
</file>